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E04-3589-42D7-8433-90E9562D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9B46-427D-445C-9327-667779D0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AE2D-3B13-45DC-888E-264D96CA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935E-7F93-44EF-B540-DAD401F3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FFB4-0E7C-4616-B891-09D76671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4C11-2FED-4697-9CAA-5D27BC1D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4A03-8F50-4797-8300-59002AA5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778-052B-4F82-8EE8-5E505E57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AD47-579D-445C-960A-08FF4A16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9A1F-B560-4777-837B-C58962F6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9B66-7EF0-41DD-A96F-8AD83CC2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AD16-9B23-493E-B9FD-EEEF8132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F774-98EF-43D8-BC1F-7749532D8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7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5 de marzo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899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37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terminamos el repaso para el Examen: Unit 1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deporte 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jugador corre de una base a ot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y cinco jugadores en el equ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y nueve entradas en el part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jugador lanza el balón con el p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jugador tira el balón y enc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ortero para o bloquea el bal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I- </a:t>
            </a:r>
            <a:r>
              <a:rPr b="1" lang="es-ES_tradnl" sz="2800" spc="-1" strike="noStrike" u="sng">
                <a:solidFill>
                  <a:srgbClr val="008000"/>
                </a:solidFill>
                <a:uFillTx/>
                <a:latin typeface="Arial"/>
              </a:rPr>
              <a:t>Comple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un partido de béisbol hay nuev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tiemp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entrad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espectadores van…a ver un partido de fut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a la canch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al estadi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a la porter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béisbol los jugadores…de una base a ot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corr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atrapa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lan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futbol los jugadores lanzan el balón c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 el bat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la man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el 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basquetbol los jugadores meten el balón 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el ces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la porterí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el plat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béisbol los jugadores atrapan la pelota c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una re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un guant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un 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320" y="759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II- </a:t>
            </a:r>
            <a:r>
              <a:rPr b="1" lang="es-ES_tradnl" sz="3200" spc="-1" strike="noStrike" u="sng">
                <a:solidFill>
                  <a:srgbClr val="008000"/>
                </a:solidFill>
                <a:uFillTx/>
                <a:latin typeface="Arial"/>
              </a:rPr>
              <a:t>Gustar / Interes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 gust____ el tomate pero no me gust___ los vege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 gust____ las frutas pero no me gust___ la ban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tal te gust____ el poll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me gust____ las papas fri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e interes____ comer un hel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me interes____ los pos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 mi también, pero no me interes____ el f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8991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III- </a:t>
            </a:r>
            <a:r>
              <a:rPr b="1" lang="es-ES_tradnl" sz="2800" spc="-1" strike="noStrike" u="sng">
                <a:solidFill>
                  <a:srgbClr val="008000"/>
                </a:solidFill>
                <a:uFillTx/>
                <a:latin typeface="Arial"/>
              </a:rPr>
              <a:t>Vocabulario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e with an appropriate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uegan futbol en el _________ de fut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marcar un tanto el balón tiene que entrar en la 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el tanto no queda __________, un equipo gana el partido y el otro equipo pier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juegan al futbol, los jugadores no pueden tocar el balón con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y cinco jugadores en un _________ de balonce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_____________ lanza la pelota al bate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_____________ vale dos puntos en el basquet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jugador corre de un/a ____________ a otro/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960" y="122400"/>
            <a:ext cx="8915400" cy="67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IV- </a:t>
            </a:r>
            <a:r>
              <a:rPr b="1" lang="es-ES_tradnl" sz="2800" spc="-1" strike="noStrike" u="sng">
                <a:solidFill>
                  <a:srgbClr val="008000"/>
                </a:solidFill>
                <a:uFillTx/>
                <a:latin typeface="Arial"/>
              </a:rPr>
              <a:t>Cierto o fal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f the statement is true write Cierto; if it is false write Falso and correct the bold word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utbo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s popular en los países hisp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chos jugadores de béisbol son de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pañ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futbol american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ambié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s popular en el mundo hisp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chos jugadores de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utbo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son de San Pedro de Macorís en la Republica Dominic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jugadores de futbol pueden tocar el balón con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cabeza y con el pi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915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V- </a:t>
            </a:r>
            <a:r>
              <a:rPr b="1" lang="es-ES_tradnl" sz="3200" spc="-1" strike="noStrike" u="sng">
                <a:solidFill>
                  <a:srgbClr val="008000"/>
                </a:solidFill>
                <a:uFillTx/>
                <a:latin typeface="Arial"/>
              </a:rPr>
              <a:t>Convers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e the miniconversation with the appropriate word and end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éctor, ¿_____ gust____ las cienci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, _____ gust____ mucho. La ciencia que mas _____ interes____ es la biolog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Si? La biología _____ aburr____ un po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tricia, es increíble. Las ciencias no _____ aburr____, son fascinantes; la biología, la química y la fís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ues ____ gust____ mas las matemáticas; el algebra y la geometría son muy interes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5:14:16Z</dcterms:created>
  <dc:creator>Helen Zumaeta</dc:creator>
  <dc:description/>
  <dc:language>en-US</dc:language>
  <cp:lastModifiedBy>Helen Zumaeta</cp:lastModifiedBy>
  <dcterms:modified xsi:type="dcterms:W3CDTF">2011-03-25T18:01:35Z</dcterms:modified>
  <cp:revision>8</cp:revision>
  <dc:subject/>
  <dc:title>Me llamo ________ Clase 7IM La fecha es el 25 de marzo del 2011</dc:title>
</cp:coreProperties>
</file>